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2CE1-A7D6-46A7-A21A-AD6129062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AA89-FE74-4129-9E42-A3B2BCF797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716B-D593-45FC-8FFF-5BD813C503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body paragraph dealing with the Progressive 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ic sentence i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aliciz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is a general statement.  Proper nouns (or PEPS) are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The proper nouns (or PEPS) are supporting information (that is, used in support of the topic sentenc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Progressives were dedicated to making government more responsive to the will of the people instead of the will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rban boss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or national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rpor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At the local level, this can be seen by the adoption of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stralian or secret bal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ich greatly reduced the power of the urban boss.  At the state level, especially in the West,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ive, referendum and rec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ere adopted.  [Describe these three.]  At the national level,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th Amend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as passed in 1913.  That provided for the direct election of senators, which greatly reduced the influence of corporations.  (Recall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 Norris’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Octopu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hich addressed the inordinate power of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thern Pa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ailroad in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lifornia state legisla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)  At all levels of government—local, state and national—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ess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k action to increase the power of the people and decrease the power of bosses and corpo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if you describe the initiative, referendum and recall, you have a long paragraph.  You might want to break it up into two or three paragraphs, depending on how much you can write on the 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C3C8-B9FD-419A-999F-E108C808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71C8-EFC0-4BE0-8D36-61300ED8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A7B6-90B6-4126-9D46-3F71FC73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DD89-8542-4353-92C7-67F431E4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9DBA-7B85-4147-80D3-09353B0D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D786-DCD4-4A06-BC0F-57E59E7D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7229-C671-4F9B-AC0D-2F5F45DE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0B64-7E26-4782-9F4D-01EAF960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DCE-5103-41D6-87D7-351B3F93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52FE-31F4-46EB-9831-BBE19E8F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54A1-D612-420B-9375-C84CA22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1E18-7FB4-4388-B661-22472B20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1E86-D31A-4DD6-BA1E-34CA64B0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CE4C-E869-4EC2-81A6-13E72B50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CCCB-000B-4F6C-9361-63287663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13D3-62CC-4B02-B6B5-E3AB0DE2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D138-AC6F-4D3F-9C8D-4EE178A8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F9FDB-E810-49A3-88C1-43796A47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802D-6CA2-4D6A-9E85-BA004AB0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1DF1-D1AD-4D9E-9B81-6E43B0C8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D570-110C-403C-9458-DD383605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FCCA-0590-495D-A6D7-6136FAA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F4D90-A508-400C-A2A2-B8757C5C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9454-BAB2-4FAB-9862-B2DD6DA4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0E88-F564-4254-A63E-26906DFA65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8FE3-C8B0-44BD-8110-8BE1542FC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191880"/>
            <a:ext cx="734040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Garamond"/>
              </a:rPr>
              <a:t>Writing Effective Free Response Essay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4" descr="essay writing"/>
          <p:cNvPicPr/>
          <p:nvPr/>
        </p:nvPicPr>
        <p:blipFill>
          <a:blip r:embed="rId1"/>
          <a:stretch/>
        </p:blipFill>
        <p:spPr>
          <a:xfrm>
            <a:off x="2895480" y="1828800"/>
            <a:ext cx="289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utlines do not have to be formal, just sketch a structure and put your facts into that structure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Line 3"/>
          <p:cNvSpPr/>
          <p:nvPr/>
        </p:nvSpPr>
        <p:spPr>
          <a:xfrm flipH="1">
            <a:off x="1828440" y="2438280"/>
            <a:ext cx="762120" cy="1219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1828800" y="3657600"/>
            <a:ext cx="838080" cy="10666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5"/>
          <p:cNvSpPr/>
          <p:nvPr/>
        </p:nvSpPr>
        <p:spPr>
          <a:xfrm flipH="1">
            <a:off x="1905120" y="4724280"/>
            <a:ext cx="761760" cy="11430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838080" y="25909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838080" y="411480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Politica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839160" y="502920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Economi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6477120" y="2286000"/>
            <a:ext cx="0" cy="182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257800" y="3200400"/>
            <a:ext cx="2438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Oval 11"/>
          <p:cNvSpPr/>
          <p:nvPr/>
        </p:nvSpPr>
        <p:spPr>
          <a:xfrm>
            <a:off x="5334120" y="5105520"/>
            <a:ext cx="838080" cy="6094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12"/>
          <p:cNvSpPr/>
          <p:nvPr/>
        </p:nvSpPr>
        <p:spPr>
          <a:xfrm flipV="1">
            <a:off x="5943600" y="4800600"/>
            <a:ext cx="76212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791320" y="5562720"/>
            <a:ext cx="12189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4876920" y="4876920"/>
            <a:ext cx="76176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5"/>
          <p:cNvSpPr/>
          <p:nvPr/>
        </p:nvSpPr>
        <p:spPr>
          <a:xfrm flipH="1">
            <a:off x="4800240" y="5486400"/>
            <a:ext cx="7621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2356200" y="28321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2279880" y="38228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2279880" y="52704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3"/>
          <p:cNvSpPr/>
          <p:nvPr/>
        </p:nvSpPr>
        <p:spPr>
          <a:xfrm>
            <a:off x="5328000" y="24512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24"/>
          <p:cNvSpPr/>
          <p:nvPr/>
        </p:nvSpPr>
        <p:spPr>
          <a:xfrm>
            <a:off x="6775560" y="24512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6775560" y="3517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5403960" y="35179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Oval 27"/>
          <p:cNvSpPr/>
          <p:nvPr/>
        </p:nvSpPr>
        <p:spPr>
          <a:xfrm>
            <a:off x="5334120" y="5105520"/>
            <a:ext cx="838080" cy="609480"/>
          </a:xfrm>
          <a:prstGeom prst="ellipse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8"/>
          <p:cNvSpPr/>
          <p:nvPr/>
        </p:nvSpPr>
        <p:spPr>
          <a:xfrm flipV="1">
            <a:off x="5943600" y="4800600"/>
            <a:ext cx="76212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Line 29"/>
          <p:cNvSpPr/>
          <p:nvPr/>
        </p:nvSpPr>
        <p:spPr>
          <a:xfrm>
            <a:off x="5791320" y="5562720"/>
            <a:ext cx="1218960" cy="3045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30"/>
          <p:cNvSpPr/>
          <p:nvPr/>
        </p:nvSpPr>
        <p:spPr>
          <a:xfrm flipH="1" flipV="1">
            <a:off x="4876920" y="4876920"/>
            <a:ext cx="761760" cy="457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31"/>
          <p:cNvSpPr/>
          <p:nvPr/>
        </p:nvSpPr>
        <p:spPr>
          <a:xfrm flipH="1">
            <a:off x="4800240" y="5486400"/>
            <a:ext cx="76212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4413600" y="441972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33"/>
          <p:cNvSpPr/>
          <p:nvPr/>
        </p:nvSpPr>
        <p:spPr>
          <a:xfrm>
            <a:off x="6471000" y="450864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34"/>
          <p:cNvSpPr/>
          <p:nvPr/>
        </p:nvSpPr>
        <p:spPr>
          <a:xfrm>
            <a:off x="7086600" y="58672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5"/>
          <p:cNvSpPr/>
          <p:nvPr/>
        </p:nvSpPr>
        <p:spPr>
          <a:xfrm>
            <a:off x="4267080" y="5791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PEP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rite with clarity and confidence– don’t be timid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definite.  Your thesis should ANSWER the prompt with your opin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ing brainstormed then organized specific facts, start each paragraph with a clear topic sent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 to specific facts to support your thinking.  Stick to your structure, refer to your outline as you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Good writing is a problem-solving situation.  Work the process!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ter writing your thesis paragraph, go back and re-read the prom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k yourself, “Have I ‘answered’ the prompt with my thesis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three or four points MUST you make to support your thesis.  Write these d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 you write, look back at the prompt and at your thesis.  Are you sticking to the top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lan your time so that you can read your essay before you finish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the clock.  Know how much time you have to produce the essa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your thesis and your outline frequent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sure that you have time to go back and read quickly through your ess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ignore a conclusion paragraph.  Sometimes it makes up for weaknesses earlier in the ess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son 4 Summa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ad the prompt completely more than o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ow your task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a thesis that addresses the prom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rite a general topic sentence to lead off each paragraph. (See notes page for this slide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fic within your body paragraphs—use proper nouns (or PEPS).  No generaliza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e before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eck your thesis and your outline as you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ave time to read your essay before finis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762120" y="762120"/>
            <a:ext cx="79246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Free response essays, in many ways, are the very heart of the AP exam.  They measure your reasoning ability as well as your historical knowledge.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o succeed with these essays, you must understand the prompts, organize your information, and write a clear and accurate response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808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Free response essay prompts put a lot of responsibility on the writer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me prompts are very open.  Here is an example of  this type of prompt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vernment under the Articles of Confederation has been considered a failure.  Describe three actions of the Confederation government and explain how these actions may or may not be considered failu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0440" y="274680"/>
            <a:ext cx="81057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hese prompts require you to define the terms, specify the time period, and understand the task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or instance, read the prompt carefully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government under the Articles of Confederation has been considered a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failur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Describe three actio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the Confederation government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d explain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how these actions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may or may no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be considered failur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 address the prompt, the following questions must be answered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time period does this question address? [1781-1789]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were 3 (no more) actions of the Confederation Congress that you are going to discus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ow are you defining “failure” or “success”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0440" y="274680"/>
            <a:ext cx="810576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Some prompts provide clear time periods to be addressed: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r instance, here are two prompts that specify very clearly the time periods to be discussed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 and contrast United States foreign policy after the First World War and after the Second World War.  Consider the periods 1919-1928 and 1945-195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did the African American Civil Rights movement of the 1950s and 1960s address the failures of Reconstruc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These prompts require you to limit your evidence and to define certain terms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th the first prompt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par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ontrast United States foreign policy after the First World War and after the Second World War.  Consider the periods 1919-1928 and 1945-1950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ollowing need clarify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al only with foreign policy decision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 need to pick decisions that are BOTH different and similar between the early and the later time period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next prompt–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ow did the African American Civil Rights movement of the 1950s and 1960s address the failures of Reconstruction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quires you to specif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veral “failures of Reconstruction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19960" indent="-22392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implies that you know when Reconstruction occurre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to know several very specific results of the later Civil Rights movement that directly addressed the failures of Reconstruc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p #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 sure you understand exactly your task, what you must “prove” in the essa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ay strictly within the time period.  Don’t wan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 must be specific, specific, specifi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relevant and time-sensitive PEPS (people, events, places, significance).  Think of PEPS as proper nouns (words that need to be capitalized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ver use generalities, i.e. many reforms, lots of reformers, many things chang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p #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rganize your thinking BEFORE you wri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s doesn’t need to be a long proc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de two or three things you need to discus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ganize the facts you have under those heading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heck through them to see that you “balance” the discussion—give each part of the topic equal discuss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1:22:11Z</dcterms:created>
  <dc:creator>bnd burns</dc:creator>
  <dc:description/>
  <dc:language>en-US</dc:language>
  <cp:lastModifiedBy>Matthew Myers</cp:lastModifiedBy>
  <dcterms:modified xsi:type="dcterms:W3CDTF">2012-05-08T18:54:01Z</dcterms:modified>
  <cp:revision>12</cp:revision>
  <dc:subject/>
  <dc:title>Lesson 4</dc:title>
</cp:coreProperties>
</file>